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37800" y="750960"/>
            <a:ext cx="50101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7280" y="4757760"/>
            <a:ext cx="504972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951840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902040" y="951840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FA988C1-D36D-40DF-9C8D-AD02D37A1C65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902040" y="95187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96E254C-4040-4548-BAB7-91707B6D3E9C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1560" cy="37591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902040" y="95187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ABE7F5F-089C-4321-BD1C-0C5C64F6322E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7280" y="4757760"/>
            <a:ext cx="504972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503A-399C-460E-8769-BC589C20C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E811-8FA8-4C9D-992C-27A48CCC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04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44C1-2364-4D25-9B6B-EFAAB9E3B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00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36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00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7F7E-81D6-4814-B9E0-3C6CF15FF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1B42-4B95-49AE-B645-EC544212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3F29-3257-4570-8DBC-D11CD875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93CC-E2AA-47E2-A589-801F777A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A353-7394-4A4B-A151-7394C05F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67B5-D199-4162-AC91-967340E6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50B2-0442-4383-9543-1E9690C8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04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1214-6AD9-4288-A821-2A3B0AE1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5340-9558-4DC6-AD01-355C7F0D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250560" y="6400800"/>
            <a:ext cx="239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8080"/>
                </a:solidFill>
                <a:latin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 Unicode MS"/>
              </a:rPr>
              <a:t>Schüler- und Elterninformation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589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08080"/>
                </a:solidFill>
                <a:latin typeface="Arial"/>
              </a:rPr>
              <a:t>Maria Eirich Gymnasium Haßfurt</a:t>
            </a:r>
            <a:br>
              <a:rPr sz="1200"/>
            </a:b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933960" y="6311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8080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5357-EC0F-4B6E-A6C0-FF2FF76D347B}" type="slidenum">
              <a:rPr b="0" lang="en-US" sz="1200" spc="-1" strike="noStrike">
                <a:solidFill>
                  <a:srgbClr val="808080"/>
                </a:solidFill>
                <a:latin typeface="Arial Unicode MS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Line 7"/>
          <p:cNvSpPr/>
          <p:nvPr/>
        </p:nvSpPr>
        <p:spPr>
          <a:xfrm>
            <a:off x="324000" y="476280"/>
            <a:ext cx="8458200" cy="0"/>
          </a:xfrm>
          <a:prstGeom prst="line">
            <a:avLst/>
          </a:prstGeom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228600" y="9684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" name="Line 9"/>
          <p:cNvSpPr/>
          <p:nvPr/>
        </p:nvSpPr>
        <p:spPr>
          <a:xfrm>
            <a:off x="304920" y="6311880"/>
            <a:ext cx="8458200" cy="0"/>
          </a:xfrm>
          <a:prstGeom prst="line">
            <a:avLst/>
          </a:prstGeom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708360" y="1719360"/>
            <a:ext cx="1727280" cy="43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08360" y="5605560"/>
            <a:ext cx="1727280" cy="43164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eutsch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5173560"/>
            <a:ext cx="1727280" cy="43200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athematik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08360" y="4741920"/>
            <a:ext cx="1727280" cy="43164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remdsprache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08360" y="3878280"/>
            <a:ext cx="1295280" cy="431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Narrow"/>
              </a:rPr>
              <a:t>G + Sk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08360" y="4309920"/>
            <a:ext cx="1295280" cy="432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Narrow"/>
              </a:rPr>
              <a:t>Reli / Eth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08360" y="3446640"/>
            <a:ext cx="1295280" cy="431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R / Geo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583000"/>
            <a:ext cx="863640" cy="431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bi-F.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08360" y="2583000"/>
            <a:ext cx="86364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Narrow"/>
              </a:rPr>
              <a:t>P-Sem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08360" y="2151000"/>
            <a:ext cx="863640" cy="43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 Narrow"/>
              </a:rPr>
              <a:t>W-Sem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151000"/>
            <a:ext cx="863640" cy="43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 Narrow"/>
              </a:rPr>
              <a:t>W-Arb.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719360"/>
            <a:ext cx="1724040" cy="43164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Narrow"/>
              </a:rPr>
              <a:t>Profileinbr.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572000" y="1719360"/>
            <a:ext cx="0" cy="43178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000760" y="1719360"/>
            <a:ext cx="0" cy="43178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38560" y="1719360"/>
            <a:ext cx="0" cy="43178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08360" y="3014640"/>
            <a:ext cx="1305000" cy="4320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W 1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7000" y="4719600"/>
            <a:ext cx="1800000" cy="131760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flichtbereich: 12 HJL, alles ist einzubringen.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000" y="2933640"/>
            <a:ext cx="1800000" cy="1665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ahlpflicht- bereich 18 HJL, Grundsatz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je ein Streichresultat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000" y="1719360"/>
            <a:ext cx="1800000" cy="988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ofilbereich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10 HJL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46640" y="4741920"/>
            <a:ext cx="1989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46640" y="2582640"/>
            <a:ext cx="1988640" cy="431640"/>
            <a:chOff x="3446640" y="2582640"/>
            <a:chExt cx="1988640" cy="431640"/>
          </a:xfrm>
        </p:grpSpPr>
        <p:sp>
          <p:nvSpPr>
            <p:cNvPr id="72" name=""/>
            <p:cNvSpPr/>
            <p:nvPr/>
          </p:nvSpPr>
          <p:spPr>
            <a:xfrm flipV="1">
              <a:off x="3446640" y="3012840"/>
              <a:ext cx="115380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4572000" y="2582640"/>
              <a:ext cx="0" cy="43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4543560" y="2583000"/>
              <a:ext cx="89172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 flipH="1">
            <a:off x="3581280" y="1695600"/>
            <a:ext cx="286560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446880" y="1217520"/>
            <a:ext cx="1181160" cy="1181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000760" y="3014640"/>
            <a:ext cx="431640" cy="4320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90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 Narrow"/>
              </a:rPr>
              <a:t>NW2</a:t>
            </a:r>
            <a:br>
              <a:rPr sz="1300"/>
            </a:br>
            <a:r>
              <a:rPr b="1" lang="de-DE" sz="1300" spc="-1" strike="noStrike">
                <a:solidFill>
                  <a:srgbClr val="000000"/>
                </a:solidFill>
                <a:latin typeface="Arial Narrow"/>
              </a:rPr>
              <a:t>/ Inf</a:t>
            </a:r>
            <a:endParaRPr b="0" lang="en-US" sz="13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13360" y="3446640"/>
            <a:ext cx="414360" cy="12729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Narrow"/>
              </a:rPr>
              <a:t>Ku / Mu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 rot="16217400">
            <a:off x="4757040" y="2185920"/>
            <a:ext cx="1279440" cy="792000"/>
          </a:xfrm>
          <a:prstGeom prst="blockArc">
            <a:avLst>
              <a:gd name="adj1" fmla="val 10959797"/>
              <a:gd name="adj2" fmla="val 21440203"/>
              <a:gd name="adj3" fmla="val 71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40360" y="3429000"/>
            <a:ext cx="28940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Arial"/>
              </a:rPr>
              <a:t>KMK: 4 NW-Einbringungen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Arial Narrow"/>
              </a:rPr>
              <a:t>spätbeginnende FS 3 HJL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940360" y="2924280"/>
            <a:ext cx="28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6600"/>
                </a:solidFill>
                <a:latin typeface="Arial Narrow"/>
                <a:ea typeface="Arial"/>
              </a:rPr>
              <a:t>NW2, Inf oder FS2 </a:t>
            </a:r>
            <a:r>
              <a:rPr b="1" lang="de-DE" sz="2000" spc="-1" strike="noStrike">
                <a:solidFill>
                  <a:srgbClr val="006600"/>
                </a:solidFill>
                <a:latin typeface="Arial Narrow"/>
              </a:rPr>
              <a:t>1 HJL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012000" y="4365720"/>
            <a:ext cx="608040" cy="552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012000" y="5013360"/>
            <a:ext cx="608040" cy="552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6804000" y="4292640"/>
            <a:ext cx="22050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Narrow"/>
              </a:rPr>
              <a:t>2 „Joker“: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2 freie HJLs können in 2 viersemestrig belegten Nichtabi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fächern je eine HJL ersetzen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05440" y="3013200"/>
            <a:ext cx="423720" cy="4334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33cc3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FS2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00760" y="1727280"/>
            <a:ext cx="431640" cy="43164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6600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NW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1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250920" y="115920"/>
            <a:ext cx="72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Qualifikationssystem - Einbringung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68360" y="3284640"/>
            <a:ext cx="6264360" cy="1366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1557360"/>
            <a:ext cx="6264360" cy="1366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170028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(Wahl-)Pflicht - Einbringung:   30 HJL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2276640"/>
            <a:ext cx="53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ofil - Einbringung: 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    10 HJL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04000" y="1557360"/>
            <a:ext cx="1944720" cy="136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77080" y="1844640"/>
            <a:ext cx="1800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40 x 15 P =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600 P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3716280"/>
            <a:ext cx="61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5 Abiturprüfungsfächer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 rot="5400000">
            <a:off x="7632720" y="3969000"/>
            <a:ext cx="287280" cy="2087280"/>
          </a:xfrm>
          <a:custGeom>
            <a:avLst/>
            <a:gdLst>
              <a:gd name="textAreaLeft" fmla="*/ 0 w 287280"/>
              <a:gd name="textAreaRight" fmla="*/ 103680 w 28728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08720" y="5300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max.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900</a:t>
            </a:r>
            <a:r>
              <a:rPr b="1" lang="en-US" sz="2400" spc="-1" strike="noStrike">
                <a:solidFill>
                  <a:srgbClr val="577ea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Punkte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04000" y="3284640"/>
            <a:ext cx="1944720" cy="13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77080" y="3591000"/>
            <a:ext cx="1800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5 x 60 P =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300 P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24000" y="692280"/>
            <a:ext cx="778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Abiturzeugnis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62080" y="158760"/>
            <a:ext cx="72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Abiturprüfung - Gesamtqualifikation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468360" y="5229360"/>
            <a:ext cx="5616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rtifikat über das P-Seminar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n der abgelegten Fächer (Jg. 10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liennummernplatzhalter 5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6743-4172-4D77-9C54-F4E950604CD1}" type="slidenum">
              <a:rPr b="0" lang="en-US" sz="1200" spc="-1" strike="noStrike">
                <a:solidFill>
                  <a:srgbClr val="808080"/>
                </a:solidFill>
                <a:latin typeface="Arial Unicode MS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228600" y="152280"/>
            <a:ext cx="723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50920" y="115920"/>
            <a:ext cx="72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Qualifikationssystem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24000" y="692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Punktehürden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6" name="AutoShape 12"/>
          <p:cNvSpPr/>
          <p:nvPr/>
        </p:nvSpPr>
        <p:spPr>
          <a:xfrm>
            <a:off x="2843280" y="4653000"/>
            <a:ext cx="944640" cy="914400"/>
          </a:xfrm>
          <a:custGeom>
            <a:avLst/>
            <a:gdLst>
              <a:gd name="textAreaLeft" fmla="*/ 0 w 944640"/>
              <a:gd name="textAreaRight" fmla="*/ 340920 w 944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" name="AutoShape 13"/>
          <p:cNvSpPr/>
          <p:nvPr/>
        </p:nvSpPr>
        <p:spPr>
          <a:xfrm rot="5400000">
            <a:off x="1367640" y="2672280"/>
            <a:ext cx="934920" cy="3168720"/>
          </a:xfrm>
          <a:custGeom>
            <a:avLst/>
            <a:gdLst>
              <a:gd name="textAreaLeft" fmla="*/ 0 w 934920"/>
              <a:gd name="textAreaRight" fmla="*/ 337680 w 93492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287"/>
                </a:lnTo>
                <a:cubicBezTo>
                  <a:pt x="10800" y="9187"/>
                  <a:pt x="16200" y="10087"/>
                  <a:pt x="21600" y="10087"/>
                </a:cubicBezTo>
                <a:cubicBezTo>
                  <a:pt x="16200" y="10087"/>
                  <a:pt x="10800" y="10987"/>
                  <a:pt x="10800" y="1188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8" name="Datumsplatzhalter 4"/>
          <p:cNvSpPr/>
          <p:nvPr/>
        </p:nvSpPr>
        <p:spPr>
          <a:xfrm>
            <a:off x="179280" y="6308640"/>
            <a:ext cx="239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 Unicode MS"/>
              </a:rPr>
              <a:t>Schüler- und Elterninformation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24000" y="1628640"/>
          <a:ext cx="8424720" cy="3938760"/>
        </p:xfrm>
        <a:graphic>
          <a:graphicData uri="http://schemas.openxmlformats.org/drawingml/2006/table">
            <a:tbl>
              <a:tblPr/>
              <a:tblGrid>
                <a:gridCol w="6048360"/>
                <a:gridCol w="2376360"/>
              </a:tblGrid>
              <a:tr h="43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i den HJL mindestens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merkung 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 Punkte aus D, M, Fs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Ø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4 Punkte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 Punkte aus den 5 Abiturprüfungsfächern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Ø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5 Punkte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 Punkte aus den 40 einzubringenden HJL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Ø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5 Punkte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Punkte in mind. 32 HJL 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eminararbeit und P-Seminar gelten 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er als je 2 HJL)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 x Unterpunkten erlaubt 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Punkt in allen HJL der Seminararbeit, 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der Präsentation und im P-Seminar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Punkte gilt als nicht belegt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 Punkte in beiden Seminaren (incl. 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Seminararbeit und P-Seminar)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Ø 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Punkte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umsplatzhalter 3"/>
          <p:cNvSpPr/>
          <p:nvPr/>
        </p:nvSpPr>
        <p:spPr>
          <a:xfrm>
            <a:off x="228600" y="6311880"/>
            <a:ext cx="239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 Unicode MS"/>
              </a:rPr>
              <a:t>Schüler- und Elterninformation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" name="Foliennummernplatzhalter 5"/>
          <p:cNvSpPr/>
          <p:nvPr/>
        </p:nvSpPr>
        <p:spPr>
          <a:xfrm>
            <a:off x="6934320" y="63118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6E48-4461-4F96-B2EA-87B0D32DB048}" type="slidenum">
              <a:rPr b="0" lang="en-US" sz="1200" spc="-1" strike="noStrike">
                <a:solidFill>
                  <a:srgbClr val="808080"/>
                </a:solidFill>
                <a:latin typeface="Arial Unicode MS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28600" y="152280"/>
            <a:ext cx="72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Informationsquellen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324000" y="549360"/>
            <a:ext cx="778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3300"/>
                </a:solidFill>
                <a:latin typeface="Arial"/>
              </a:rPr>
              <a:t>www.gymnasiale-oberstufe-bayern.de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49120" y="1125360"/>
            <a:ext cx="8894880" cy="1852920"/>
          </a:xfrm>
          <a:prstGeom prst="rect">
            <a:avLst/>
          </a:prstGeom>
          <a:ln w="28440">
            <a:solidFill>
              <a:srgbClr val="355d90"/>
            </a:solidFill>
            <a:miter/>
          </a:ln>
        </p:spPr>
      </p:pic>
      <p:pic>
        <p:nvPicPr>
          <p:cNvPr id="115" name="Picture 14" descr=""/>
          <p:cNvPicPr/>
          <p:nvPr/>
        </p:nvPicPr>
        <p:blipFill>
          <a:blip r:embed="rId2"/>
          <a:stretch/>
        </p:blipFill>
        <p:spPr>
          <a:xfrm>
            <a:off x="4859280" y="3213000"/>
            <a:ext cx="1995480" cy="2808360"/>
          </a:xfrm>
          <a:prstGeom prst="rect">
            <a:avLst/>
          </a:prstGeom>
          <a:ln w="19080">
            <a:solidFill>
              <a:srgbClr val="0066cc"/>
            </a:solidFill>
            <a:miter/>
          </a:ln>
        </p:spPr>
      </p:pic>
      <p:sp>
        <p:nvSpPr>
          <p:cNvPr id="116" name="Text Box 13"/>
          <p:cNvSpPr/>
          <p:nvPr/>
        </p:nvSpPr>
        <p:spPr>
          <a:xfrm>
            <a:off x="252360" y="342900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1280" indent="-341280">
              <a:spcBef>
                <a:spcPts val="601"/>
              </a:spcBef>
              <a:buClr>
                <a:srgbClr val="355d90"/>
              </a:buClr>
              <a:buFont typeface="Verdana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Arial"/>
                <a:ea typeface="Arial"/>
              </a:rPr>
              <a:t>Broschüre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 rot="1206000">
            <a:off x="6514560" y="2922480"/>
            <a:ext cx="2467080" cy="76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2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1" lang="en-GB" sz="22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1" lang="en-GB" sz="2200" spc="-1" strike="noStrike">
                <a:solidFill>
                  <a:srgbClr val="cc3300"/>
                </a:solidFill>
                <a:latin typeface="Arial"/>
                <a:ea typeface="Arial"/>
              </a:rPr>
              <a:t>Interaktiver Fächerplaner</a:t>
            </a:r>
            <a:endParaRPr b="0" lang="en-US" sz="2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250920" y="4365720"/>
            <a:ext cx="4500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601"/>
              </a:spcBef>
              <a:buClr>
                <a:srgbClr val="355d90"/>
              </a:buClr>
              <a:buFont typeface="Verdana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Arial"/>
                <a:ea typeface="Arial"/>
              </a:rPr>
              <a:t>www.rmgwiki.de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355d90"/>
              </a:buClr>
              <a:buFont typeface="Verdana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Arial"/>
                <a:ea typeface="Arial"/>
              </a:rPr>
              <a:t>Informationen Schulstraße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9T09:36:06Z</dcterms:created>
  <dc:creator>Schiener</dc:creator>
  <dc:description/>
  <dc:language>en-US</dc:language>
  <cp:lastModifiedBy>eirich</cp:lastModifiedBy>
  <dcterms:modified xsi:type="dcterms:W3CDTF">2009-12-21T08:29:02Z</dcterms:modified>
  <cp:revision>709</cp:revision>
  <dc:subject/>
  <dc:title>PowerPoint-Präsentation</dc:title>
</cp:coreProperties>
</file>